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64C-53CC-4461-9D6D-252FF064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68D-34BA-4C4C-9C9C-F26CC7DF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7B6-89EF-4865-9CB2-D2D2350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786-885C-4456-B4C3-3E47AD7C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68B-C329-4FA6-B709-3F59499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51F-43EA-443E-905A-2C9AFD1F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B56-C134-4A88-8C24-F375A05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A88-310A-4FC8-8743-6AC0B59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766-3994-45FE-BC67-CCD4F921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E57-A526-4918-957A-742F3EA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0DE-ABC5-461F-9165-3C7871E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AFA-855F-4E9D-ABB3-088EBE9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AF6-D86B-4B2C-BB36-D502B0E4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4000"/>
            <a:ext cx="4275000" cy="93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876920" cy="74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9480" y="125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70866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229600" cy="3009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133720"/>
            <a:ext cx="2133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03280"/>
            <a:ext cx="8763120" cy="109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838080"/>
            <a:ext cx="1752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762280" cy="52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7696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458200" cy="141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685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4188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71800" y="2971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505320"/>
            <a:ext cx="1218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8862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49568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8769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86728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07:42Z</dcterms:created>
  <dc:creator>grahams</dc:creator>
  <dc:description/>
  <dc:language>en-US</dc:language>
  <cp:lastModifiedBy>grahams</cp:lastModifiedBy>
  <dcterms:modified xsi:type="dcterms:W3CDTF">2012-03-22T12:52:58Z</dcterms:modified>
  <cp:revision>2</cp:revision>
  <dc:subject/>
  <dc:title>Slide 1</dc:title>
</cp:coreProperties>
</file>